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E22-C6AE-4A52-976B-B82798DD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5F6-F0AB-40A7-9F75-2F27BC25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50A-AC89-4583-A40C-CD0863CF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8527-03B7-46FB-AFD5-CE1D2FDD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3562-94F7-4D6F-ABFE-6C29B8DD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E547-D7B7-4530-8327-4FF9D3C0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D04D-7310-41DE-965A-374763EA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C5A1-16EA-49CC-A928-238D229A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8144-4141-47C2-ABA5-9A122967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0765-9FE8-4E3D-B308-06C7D3AE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2220-DA05-4C62-8CD6-5294499C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B8D-4EC9-4188-B227-7BD2AD6C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B528-FF28-432D-AC00-10CCA1C3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0F28-5DFD-4A25-8617-D356D55E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50C3-E95B-4367-A9A3-8ACD797A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63AD-7396-4D58-8223-8A757D6E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FBCF-A0D0-463D-8BCC-3C7FFCD9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F4B-C270-4212-AF42-C875E77D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EC6-9C09-4888-9DAE-D8543992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154C-AF47-4185-A6E8-DC239C11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252-65E3-4D43-912E-29456727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8B4-C677-41A8-A7AB-0FFC79C3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325-478A-4B3C-935D-EFC650C3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0ED-F401-4740-8C9C-57F5E0F6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8370-9637-4077-970A-6C5914E5B1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0231-C2AF-44DD-8BE1-4DEAC47A1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ИДЕКС ПРИРОСТА </a:t>
            </a: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ВВП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ИЗМЕННЕНИЯ </a:t>
            </a: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ИПЦ</a:t>
            </a: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 В</a:t>
            </a: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 РФ</a:t>
            </a: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 В АВГ.98-ЯНВ.99 (В%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ОТНОШЕНИЕ ДЕНЕЖНЫХ ДОХОДОВ НАСЕЛЕНИЯ К ВЕЛИЧИНЕ ПРОЖИТОЧНОГО МИНИМУМА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Динамика среднемесячной з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/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 (в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 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В какой мере население РФ преодолело кризи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05:38:50Z</dcterms:created>
  <dc:creator>DJulia</dc:creator>
  <dc:description/>
  <dc:language>en-US</dc:language>
  <cp:lastModifiedBy>DJulia</cp:lastModifiedBy>
  <dcterms:modified xsi:type="dcterms:W3CDTF">2000-02-16T16:31:01Z</dcterms:modified>
  <cp:revision>3</cp:revision>
  <dc:subject/>
  <dc:title>ИДЕКС ПРИРОСТА ВВП</dc:title>
</cp:coreProperties>
</file>